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44B0-EFC4-412C-BE2E-99F73175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12C4-D6B7-4EF6-8E4A-B2CF04B8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F9D1-76B2-4295-A4DD-C2B56192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CBAB-5CED-46B8-A152-A89747DE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2D3F-4E19-4A4F-9A2D-DCB71E0B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6330-D147-4B3C-9023-96D9BA92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923-C2F1-4B1A-BD8F-CD7E59D8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6771-DE1B-4B13-B91C-E4D0F098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B868-EFB4-4629-829A-C9C409A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0B6F-779D-4EBC-84B8-1BAFDDDC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D73A-2594-4D4E-A26A-92DC3DC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802F-E54C-4D00-94CC-E50DE6FD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5C43-1E78-42A1-A57A-4BE537C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A64F-679B-47C5-B993-41D446E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0B1F-A841-461F-B448-8E551BC6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ADA-5DCE-4A6E-967D-97B11514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2FA5-3009-4285-83B8-BE1755FD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24E2-EFFE-496E-9B05-797AE91C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26AA-FAB3-4FA0-954A-AD60732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C129-BA41-4607-B6B6-70D4A9B5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B2D3-B6E3-44FE-A5B9-FB761A8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2C7C-E062-417F-8727-DF7E0C2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58E6-DF5F-4886-BF1D-4216F3C1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2222-0F78-4CDD-B16A-F9A0C94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6080"/>
            <a:ext cx="9350640" cy="5638680"/>
            <a:chOff x="-103320" y="1306080"/>
            <a:chExt cx="9350640" cy="5638680"/>
          </a:xfrm>
        </p:grpSpPr>
        <p:sp>
          <p:nvSpPr>
            <p:cNvPr id="1" name=""/>
            <p:cNvSpPr/>
            <p:nvPr/>
          </p:nvSpPr>
          <p:spPr>
            <a:xfrm flipV="1" rot="20820000">
              <a:off x="-22320" y="1637280"/>
              <a:ext cx="2768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-36360" y="178668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-42840" y="19008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-68400" y="2035080"/>
              <a:ext cx="3930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-81000" y="221580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-103320" y="2415240"/>
              <a:ext cx="485460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-145800" y="2687760"/>
              <a:ext cx="540252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-155160" y="295524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-261720" y="325728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-339840" y="36320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-496800" y="4152600"/>
              <a:ext cx="825480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14040" y="456984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095200" y="46454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257360" y="487296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6432840" y="5561640"/>
              <a:ext cx="330048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8521920" y="661464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-231840" y="37447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-260280" y="575136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-174600" y="62247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-341280" y="511344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-182520" y="33778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28520" y="3089160"/>
              <a:ext cx="91378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593640" y="285876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34748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1672920" y="23414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197604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360160" y="2072160"/>
              <a:ext cx="684864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620800" y="19350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96984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-321840" y="472392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-276120" y="42267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8055C-CCE8-4538-A099-547B3FF90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09320"/>
            <a:ext cx="9350280" cy="5638680"/>
            <a:chOff x="-104760" y="1309320"/>
            <a:chExt cx="9350280" cy="5638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-23760" y="164052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-38160" y="17899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-44280" y="19029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-69840" y="20383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-82440" y="221904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-104760" y="241884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-149400" y="2689920"/>
              <a:ext cx="540252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-156960" y="295848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-2631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-341280" y="363528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-4986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122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091960" y="4649040"/>
              <a:ext cx="732168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254120" y="48762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6432120" y="5564880"/>
              <a:ext cx="329976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8520480" y="661788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-233280" y="3747600"/>
              <a:ext cx="959796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-316080" y="5392800"/>
              <a:ext cx="657576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-262080" y="57546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-176040" y="6227280"/>
              <a:ext cx="222228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-344520" y="511668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-184320" y="338112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27080" y="309240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592200" y="286200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344240" y="2514240"/>
              <a:ext cx="7899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1671120" y="234468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1974600" y="218880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358720" y="2076120"/>
              <a:ext cx="684828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619360" y="19382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968400" y="2673720"/>
              <a:ext cx="8261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-325080" y="472716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-277920" y="4230000"/>
              <a:ext cx="9690120" cy="936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24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920" y="5800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800" y="42274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40040" y="48862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0080"/>
              <a:ext cx="2397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1956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9040" y="41972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81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228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56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9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5640"/>
              <a:ext cx="20304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840" y="343224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36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480" y="34560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9280" y="367200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4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0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40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5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360" y="36910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6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76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184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560" y="27018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9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104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64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8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800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89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36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5040" y="25560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2480"/>
              <a:ext cx="31104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48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086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440" y="45543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400" y="4238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680" y="5337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880" y="36576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96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960" y="227484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16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4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840" y="21747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4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36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760" y="21589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6240" y="183528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24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800" y="2155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800" y="17636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32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1040" y="2270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560" y="16858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3320" y="1670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7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1040" y="19540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60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880" y="20574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10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5040" y="21556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0280" y="19447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600" y="17463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720" y="213516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720" y="1943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27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4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6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56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3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44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72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920" y="225756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0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68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68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76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92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76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440"/>
              <a:ext cx="150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56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61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84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92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524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640" y="5364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520" y="4221000"/>
              <a:ext cx="239760" cy="1335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68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1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50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76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76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96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8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9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8000" y="64310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424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60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916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4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000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960" y="45734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4040" y="4246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8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88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680"/>
              <a:ext cx="22248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88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7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1480"/>
              <a:ext cx="2379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5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2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6912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F35DF-8094-426B-B521-1770D61C48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10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lanning with Unknown Ac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4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March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 T. Cas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BO Robot running Tekkot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 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P running on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dbox” and 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4881600" y="1600200"/>
            <a:ext cx="3570120" cy="21906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4876920" y="39625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Domai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 and Blue ro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k 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robot and ball in green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ng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4648320" y="19810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vious 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the domain with all actions determined and solved with SG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nning when an action doesn’t have the desired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hes the goal state even when interfered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 – planning (with replanning) works for a robot in this siz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 Ide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ive agent – doesn’t know what any of its actions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o find out via trial and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ing to plan as it goes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proa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simplified the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ensing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ree a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b 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the other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b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till have conditional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6324480" y="3200400"/>
            <a:ext cx="1644840" cy="16444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294320" y="243828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DpQuake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proach cont.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current state to see if it is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if we can make a plan with knowledge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an action we don’t know what does from the current state, bind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random action to change th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till go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s so Fa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ive agents are naive – do “stupid” things until they know be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enough domain to stumble upon goal quick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integrated planning technique / more intelligent trial and error process would improve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Daniel T. Casner</dc:creator>
  <dc:description/>
  <dc:language>en-US</dc:language>
  <cp:lastModifiedBy> Daniel T. Casner</cp:lastModifiedBy>
  <cp:revision>0</cp:revision>
  <dc:subject/>
  <dc:title>Planning with Unknown Actions</dc:title>
</cp:coreProperties>
</file>